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B48-C28A-4D4E-A1E0-C216E9E8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D3C3-04B2-49E8-A169-6FB65701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84D-FA0F-466F-AB93-844EC4E5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D95-5246-468C-BB78-5BBB8216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F24-69DA-4FFE-A664-6B295145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D6C-D455-40E9-982B-1A2A5458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109-483D-400B-B7E8-3767A98D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B2A-AA26-4675-90F8-B140A15B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D6F-AE69-4CEF-9B4D-DD536FA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F1A5-6F56-4FE0-BB64-097DC5D8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F3A5-1B76-4DA4-B697-08CB86F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19E9-28D1-4FAA-B4E7-97C2A91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049-B6A5-49AD-8D79-9BFD3450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18C-57B8-4AA8-A749-9E246F7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190-1120-46B9-BE0F-766046C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157-49E8-45AF-AE09-E35CF72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D6A5-B7B4-4877-8EF8-36307673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462-18FF-43ED-BD6D-B128E034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013-98E3-49C0-A878-7CFC2D27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F3EE-63C3-4951-BD5C-2D4012BE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841E-BAA2-4803-8871-706E394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0C05-AE0E-4A6C-B933-78FB16A1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D86A-94A6-494E-8EE5-7AD8AF1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561A-9045-4A0B-ACD1-846AB48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BD0-8760-4092-9110-AD08DF95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4018-2669-415A-AB16-712C86B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2470-F1C3-4318-95A6-CC64856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5111-AE3E-4426-AB20-4354509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A120-3B2E-4224-A2E4-61785A36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3EDB-82E4-4CB0-92A8-235B0F48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120F-E162-4CFE-B5B9-1A9A4E98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D277-330E-4078-850D-B7AC0654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10D0-1606-4CD1-8429-FE9880AB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1A79-0E35-494D-B3C3-CA0BBB3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1D03-D2E5-424F-85B1-CD17A09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AF3-5ABF-4709-A535-EF9B445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6792-D882-42A1-84CA-901CEAE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786E-9CC5-4283-BD51-21E6913F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EF2A-7B11-423A-835E-68C68DC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BC61-1B81-4E79-8844-8F0890F6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117C-4CBC-4835-B1AD-9565A2E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B12F-C74E-4520-ABA7-8D2E3E4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BAF2-9A72-47D9-AB54-241F5124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219C-A241-4543-8CC8-55E46B28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F399-3682-4AC3-87C4-5748BD9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6853-896C-4D7A-8B5D-23AE79CC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5A5-EBBC-457F-B999-EBA9D3B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0A7B-8261-49EF-8C15-D7E1ECD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52E1-A253-4115-BDD9-196F5E6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C21C-86EE-47AE-AD1B-BFDEC2E4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E519-F285-4EBF-A382-02747C91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676D-D9F2-4CB4-B0E8-8B59DC0F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EDC2-B11B-4C34-8BF6-50E5031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C415-8B1F-4C00-9C0E-765F610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F26C-09AF-4004-907C-CA4884E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562E-E66F-4EFB-8C87-B917A375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B889-8E55-499F-A7FB-59A6F0C1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D09-4066-485A-B429-21822965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E393-192E-4618-AAFB-5CE32A7D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F8E-0D38-45F7-A9BA-D1AFDED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A1F-08B7-4513-8A99-DA1B681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590-8593-4443-86B3-1D3DD0F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832-98CE-43C9-B2FB-335CE8E621D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496-1D9E-47F2-B1E8-1AB6838CC95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D49-F9DF-46E4-9345-AD131B9821B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2BE5-3866-4854-AFAA-51B0C127AAE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F66-F559-491F-B134-3F645581964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Evan Singleton</cp:lastModifiedBy>
  <dcterms:modified xsi:type="dcterms:W3CDTF">2010-11-08T18:59:51Z</dcterms:modified>
  <cp:revision>101</cp:revision>
  <dc:subject/>
  <dc:title>Topic 1</dc:title>
</cp:coreProperties>
</file>